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2.png" ContentType="image/png"/>
  <Override PartName="/ppt/media/image1.jpeg" ContentType="image/jpeg"/>
  <Override PartName="/ppt/media/image20.jpeg" ContentType="image/jpeg"/>
  <Override PartName="/ppt/media/image15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2.png" ContentType="image/pn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2918400" cy="43891200"/>
  <p:notesSz cx="32100838" cy="4221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74A7-22DC-4C90-8A43-52E3E142E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1757520"/>
            <a:ext cx="29627640" cy="731520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ctr">
            <a:noAutofit/>
          </a:bodyPr>
          <a:p>
            <a:pPr indent="0" algn="ctr">
              <a:buNone/>
              <a:tabLst>
                <a:tab algn="l" pos="0"/>
                <a:tab algn="l" pos="5851440"/>
              </a:tabLst>
            </a:pPr>
            <a:endParaRPr b="0" lang="en-US" sz="28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10240920"/>
            <a:ext cx="29627640" cy="1381644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25370280"/>
            <a:ext cx="29627640" cy="1381644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3D87-0893-478F-B608-B9B6A408B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1757520"/>
            <a:ext cx="29627640" cy="731520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ctr">
            <a:noAutofit/>
          </a:bodyPr>
          <a:p>
            <a:pPr indent="0" algn="ctr">
              <a:buNone/>
              <a:tabLst>
                <a:tab algn="l" pos="0"/>
                <a:tab algn="l" pos="5851440"/>
              </a:tabLst>
            </a:pPr>
            <a:endParaRPr b="0" lang="en-US" sz="28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10240920"/>
            <a:ext cx="14457960" cy="1381644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7120" y="10240920"/>
            <a:ext cx="14457960" cy="1381644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25370280"/>
            <a:ext cx="14457960" cy="1381644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7120" y="25370280"/>
            <a:ext cx="14457960" cy="1381644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047F-573E-4F7A-9F53-CFCED7DBC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1757520"/>
            <a:ext cx="29627640" cy="731520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ctr">
            <a:noAutofit/>
          </a:bodyPr>
          <a:p>
            <a:pPr indent="0" algn="ctr">
              <a:buNone/>
              <a:tabLst>
                <a:tab algn="l" pos="0"/>
                <a:tab algn="l" pos="5851440"/>
              </a:tabLst>
            </a:pPr>
            <a:endParaRPr b="0" lang="en-US" sz="28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10240920"/>
            <a:ext cx="9540000" cy="1381644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3280" y="10240920"/>
            <a:ext cx="9540000" cy="1381644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80640" y="10240920"/>
            <a:ext cx="9540000" cy="1381644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25370280"/>
            <a:ext cx="9540000" cy="1381644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3280" y="25370280"/>
            <a:ext cx="9540000" cy="1381644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80640" y="25370280"/>
            <a:ext cx="9540000" cy="1381644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14A4-BB2F-4101-8410-8AF9EFDCC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1757520"/>
            <a:ext cx="29627640" cy="731520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ctr">
            <a:noAutofit/>
          </a:bodyPr>
          <a:p>
            <a:pPr indent="0" algn="ctr">
              <a:buNone/>
              <a:tabLst>
                <a:tab algn="l" pos="0"/>
                <a:tab algn="l" pos="5851440"/>
              </a:tabLst>
            </a:pPr>
            <a:endParaRPr b="0" lang="en-US" sz="28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10240920"/>
            <a:ext cx="29627640" cy="289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125"/>
              </a:spcBef>
              <a:buNone/>
              <a:tabLst>
                <a:tab algn="l" pos="0"/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B412-2828-40B0-8CC2-C6809901A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1757520"/>
            <a:ext cx="29627640" cy="731520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ctr">
            <a:noAutofit/>
          </a:bodyPr>
          <a:p>
            <a:pPr indent="0" algn="ctr">
              <a:buNone/>
              <a:tabLst>
                <a:tab algn="l" pos="0"/>
                <a:tab algn="l" pos="5851440"/>
              </a:tabLst>
            </a:pPr>
            <a:endParaRPr b="0" lang="en-US" sz="28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10240920"/>
            <a:ext cx="29627640" cy="2896560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D462-DADA-456C-969E-E53CD9282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1757520"/>
            <a:ext cx="29627640" cy="731520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ctr">
            <a:noAutofit/>
          </a:bodyPr>
          <a:p>
            <a:pPr indent="0" algn="ctr">
              <a:buNone/>
              <a:tabLst>
                <a:tab algn="l" pos="0"/>
                <a:tab algn="l" pos="5851440"/>
              </a:tabLst>
            </a:pPr>
            <a:endParaRPr b="0" lang="en-US" sz="28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10240920"/>
            <a:ext cx="14457960" cy="2896560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7120" y="10240920"/>
            <a:ext cx="14457960" cy="2896560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708D-10B3-451A-AB5D-10E4839E2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1757520"/>
            <a:ext cx="29627640" cy="731520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ctr">
            <a:noAutofit/>
          </a:bodyPr>
          <a:p>
            <a:pPr indent="0" algn="ctr">
              <a:buNone/>
              <a:tabLst>
                <a:tab algn="l" pos="0"/>
                <a:tab algn="l" pos="5851440"/>
              </a:tabLst>
            </a:pPr>
            <a:endParaRPr b="0" lang="en-US" sz="28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DA50-1336-436A-B4ED-1AA91891A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1757520"/>
            <a:ext cx="29627640" cy="339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125"/>
              </a:spcBef>
              <a:tabLst>
                <a:tab algn="l" pos="0"/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D0B0-7E72-4A08-BAE2-99FFE86DC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1757520"/>
            <a:ext cx="29627640" cy="731520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ctr">
            <a:noAutofit/>
          </a:bodyPr>
          <a:p>
            <a:pPr indent="0" algn="ctr">
              <a:buNone/>
              <a:tabLst>
                <a:tab algn="l" pos="0"/>
                <a:tab algn="l" pos="5851440"/>
              </a:tabLst>
            </a:pPr>
            <a:endParaRPr b="0" lang="en-US" sz="28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10240920"/>
            <a:ext cx="14457960" cy="1381644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7120" y="10240920"/>
            <a:ext cx="14457960" cy="2896560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25370280"/>
            <a:ext cx="14457960" cy="1381644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1DBF-9ABC-4C03-9F75-53F799EEE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1757520"/>
            <a:ext cx="29627640" cy="731520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ctr">
            <a:noAutofit/>
          </a:bodyPr>
          <a:p>
            <a:pPr indent="0" algn="ctr">
              <a:buNone/>
              <a:tabLst>
                <a:tab algn="l" pos="0"/>
                <a:tab algn="l" pos="5851440"/>
              </a:tabLst>
            </a:pPr>
            <a:endParaRPr b="0" lang="en-US" sz="28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10240920"/>
            <a:ext cx="14457960" cy="2896560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7120" y="10240920"/>
            <a:ext cx="14457960" cy="1381644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7120" y="25370280"/>
            <a:ext cx="14457960" cy="1381644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B294-F984-42E0-9337-653F91BB8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1757520"/>
            <a:ext cx="29627640" cy="731520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ctr">
            <a:noAutofit/>
          </a:bodyPr>
          <a:p>
            <a:pPr indent="0" algn="ctr">
              <a:buNone/>
              <a:tabLst>
                <a:tab algn="l" pos="0"/>
                <a:tab algn="l" pos="5851440"/>
              </a:tabLst>
            </a:pPr>
            <a:endParaRPr b="0" lang="en-US" sz="28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10240920"/>
            <a:ext cx="14457960" cy="1381644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7120" y="10240920"/>
            <a:ext cx="14457960" cy="1381644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25370280"/>
            <a:ext cx="29627640" cy="1381644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D309-1583-46F3-AA01-DAE0AEBF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45920" y="1757520"/>
            <a:ext cx="29627640" cy="731520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ctr">
            <a:noAutofit/>
          </a:bodyPr>
          <a:p>
            <a:pPr indent="0" algn="ctr">
              <a:buNone/>
              <a:tabLst>
                <a:tab algn="l" pos="0"/>
                <a:tab algn="l" pos="5851440"/>
              </a:tabLst>
            </a:pPr>
            <a:r>
              <a:rPr b="0" lang="en-US" sz="28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45920" y="10240920"/>
            <a:ext cx="29627640" cy="2896560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 fontScale="86000"/>
          </a:bodyPr>
          <a:p>
            <a:pPr marL="1886400" indent="-1886400">
              <a:spcBef>
                <a:spcPts val="5125"/>
              </a:spcBef>
              <a:buClr>
                <a:srgbClr val="000000"/>
              </a:buClr>
              <a:buFont typeface="Arial"/>
              <a:buChar char="•"/>
              <a:tabLst>
                <a:tab algn="l" pos="5851440"/>
              </a:tabLst>
            </a:pPr>
            <a:r>
              <a:rPr b="0" lang="en-US" sz="20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  <a:p>
            <a:pPr lvl="1" marL="4088880" indent="-1571040">
              <a:spcBef>
                <a:spcPts val="5125"/>
              </a:spcBef>
              <a:buClr>
                <a:srgbClr val="000000"/>
              </a:buClr>
              <a:buFont typeface="Arial"/>
              <a:buChar char="–"/>
              <a:tabLst>
                <a:tab algn="l" pos="5851440"/>
              </a:tabLst>
            </a:pPr>
            <a:r>
              <a:rPr b="0" lang="en-US" sz="20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  <a:p>
            <a:pPr lvl="2" marL="6289560" indent="-1257480">
              <a:spcBef>
                <a:spcPts val="5125"/>
              </a:spcBef>
              <a:buClr>
                <a:srgbClr val="000000"/>
              </a:buClr>
              <a:buFont typeface="Arial"/>
              <a:buChar char="•"/>
              <a:tabLst>
                <a:tab algn="l" pos="5851440"/>
              </a:tabLst>
            </a:pPr>
            <a:r>
              <a:rPr b="0" lang="en-US" sz="20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  <a:p>
            <a:pPr lvl="3" marL="8807040" indent="-1257120">
              <a:spcBef>
                <a:spcPts val="5125"/>
              </a:spcBef>
              <a:buClr>
                <a:srgbClr val="000000"/>
              </a:buClr>
              <a:buFont typeface="Arial"/>
              <a:buChar char="–"/>
              <a:tabLst>
                <a:tab algn="l" pos="5851440"/>
              </a:tabLst>
            </a:pPr>
            <a:r>
              <a:rPr b="0" lang="en-US" sz="20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  <a:p>
            <a:pPr lvl="4" marL="11323080" indent="-1257120">
              <a:spcBef>
                <a:spcPts val="5125"/>
              </a:spcBef>
              <a:buClr>
                <a:srgbClr val="000000"/>
              </a:buClr>
              <a:buFont typeface="Arial"/>
              <a:buChar char="»"/>
              <a:tabLst>
                <a:tab algn="l" pos="5851440"/>
              </a:tabLst>
            </a:pPr>
            <a:r>
              <a:rPr b="0" lang="en-US" sz="20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  <a:p>
            <a:pPr lvl="5" marL="11323080" indent="-1257120">
              <a:spcBef>
                <a:spcPts val="5125"/>
              </a:spcBef>
              <a:buClr>
                <a:srgbClr val="000000"/>
              </a:buClr>
              <a:buFont typeface="Arial"/>
              <a:buChar char="»"/>
              <a:tabLst>
                <a:tab algn="l" pos="5851440"/>
              </a:tabLst>
            </a:pPr>
            <a:r>
              <a:rPr b="0" lang="en-US" sz="20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  <a:p>
            <a:pPr lvl="6" marL="11323080" indent="-1257120">
              <a:spcBef>
                <a:spcPts val="5125"/>
              </a:spcBef>
              <a:buClr>
                <a:srgbClr val="000000"/>
              </a:buClr>
              <a:buFont typeface="Arial"/>
              <a:buChar char="»"/>
              <a:tabLst>
                <a:tab algn="l" pos="5851440"/>
              </a:tabLst>
            </a:pPr>
            <a:r>
              <a:rPr b="0" lang="en-US" sz="20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45920" y="40679280"/>
            <a:ext cx="7682040" cy="233676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851440"/>
              </a:tabLst>
              <a:defRPr b="0" lang="en-US" sz="7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851440"/>
              </a:tabLst>
            </a:pPr>
            <a:r>
              <a:rPr b="0" lang="en-US" sz="77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7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247120" y="40679280"/>
            <a:ext cx="10425240" cy="233676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ctr">
            <a:noAutofit/>
          </a:bodyPr>
          <a:p>
            <a:pPr indent="0">
              <a:buNone/>
              <a:tabLst>
                <a:tab algn="l" pos="0"/>
                <a:tab algn="l" pos="585144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3591520" y="40679280"/>
            <a:ext cx="7682040" cy="233676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5851440"/>
              </a:tabLst>
              <a:defRPr b="0" lang="en-US" sz="7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5851440"/>
              </a:tabLst>
            </a:pPr>
            <a:fld id="{89DAD21F-1FF7-4A61-B080-F5A969A72E4E}" type="slidenum">
              <a:rPr b="0" lang="en-US" sz="77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7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jpe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12" descr="explose boite-prop.jpg"/>
          <p:cNvPicPr/>
          <p:nvPr/>
        </p:nvPicPr>
        <p:blipFill>
          <a:blip r:embed="rId1"/>
          <a:srcRect l="0" t="0" r="12502" b="13339"/>
          <a:stretch/>
        </p:blipFill>
        <p:spPr>
          <a:xfrm>
            <a:off x="11430000" y="39928680"/>
            <a:ext cx="5334120" cy="39625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71" descr="pain.jpg"/>
          <p:cNvPicPr/>
          <p:nvPr/>
        </p:nvPicPr>
        <p:blipFill>
          <a:blip r:embed="rId2"/>
          <a:stretch/>
        </p:blipFill>
        <p:spPr>
          <a:xfrm>
            <a:off x="19050120" y="8001000"/>
            <a:ext cx="12496680" cy="62848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P:\Malek\ER---RENDU\gris copy.jpg"/>
          <p:cNvPicPr/>
          <p:nvPr/>
        </p:nvPicPr>
        <p:blipFill>
          <a:blip r:embed="rId3"/>
          <a:stretch/>
        </p:blipFill>
        <p:spPr>
          <a:xfrm>
            <a:off x="0" y="1295280"/>
            <a:ext cx="32918400" cy="5257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4"/>
          <a:srcRect l="18942" t="17968" r="68125" b="75005"/>
          <a:stretch/>
        </p:blipFill>
        <p:spPr>
          <a:xfrm>
            <a:off x="25146000" y="1295280"/>
            <a:ext cx="5145120" cy="1219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5"/>
          <a:stretch/>
        </p:blipFill>
        <p:spPr>
          <a:xfrm>
            <a:off x="30251520" y="1295280"/>
            <a:ext cx="2666880" cy="1219320"/>
          </a:xfrm>
          <a:prstGeom prst="rect">
            <a:avLst/>
          </a:prstGeom>
          <a:ln w="0">
            <a:noFill/>
          </a:ln>
        </p:spPr>
      </p:pic>
      <p:sp>
        <p:nvSpPr>
          <p:cNvPr id="46" name="TextBox 21"/>
          <p:cNvSpPr/>
          <p:nvPr/>
        </p:nvSpPr>
        <p:spPr>
          <a:xfrm>
            <a:off x="1450080" y="7772400"/>
            <a:ext cx="3940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1" lang="en-US" sz="8400" spc="-1" strike="noStrike">
                <a:solidFill>
                  <a:srgbClr val="000000"/>
                </a:solidFill>
                <a:latin typeface="Calibri"/>
              </a:rPr>
              <a:t>Problem</a:t>
            </a: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3"/>
          <p:cNvSpPr/>
          <p:nvPr/>
        </p:nvSpPr>
        <p:spPr>
          <a:xfrm>
            <a:off x="0" y="2590920"/>
            <a:ext cx="32918400" cy="51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851440"/>
              </a:tabLst>
            </a:pPr>
            <a:r>
              <a:rPr b="1" lang="en-US" sz="1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200" spc="-1" strike="noStrike">
                <a:solidFill>
                  <a:srgbClr val="000000"/>
                </a:solidFill>
                <a:latin typeface="Arial"/>
              </a:rPr>
              <a:t>BALEK LIGHTING          </a:t>
            </a:r>
            <a:r>
              <a:rPr b="1" lang="en-US" sz="8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tegrated Lighting System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51440"/>
              </a:tabLst>
            </a:pPr>
            <a:r>
              <a:rPr b="1" lang="en-US" sz="1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4"/>
          <p:cNvSpPr/>
          <p:nvPr/>
        </p:nvSpPr>
        <p:spPr>
          <a:xfrm>
            <a:off x="685800" y="4800600"/>
            <a:ext cx="3116592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Bao Ngoc To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Health Systems Institute and </a:t>
            </a: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Malek Bessaad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ollege of Architecture 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514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4"/>
          <p:cNvSpPr/>
          <p:nvPr/>
        </p:nvSpPr>
        <p:spPr>
          <a:xfrm>
            <a:off x="19354680" y="5638680"/>
            <a:ext cx="18669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Georgia Institute of Technology, Atlanta GA 30332 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08" descr="4A copy.jpg"/>
          <p:cNvPicPr/>
          <p:nvPr/>
        </p:nvPicPr>
        <p:blipFill>
          <a:blip r:embed="rId6"/>
          <a:stretch/>
        </p:blipFill>
        <p:spPr>
          <a:xfrm>
            <a:off x="1219320" y="37490400"/>
            <a:ext cx="7696080" cy="5772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11" descr="explose boite.jpg"/>
          <p:cNvPicPr/>
          <p:nvPr/>
        </p:nvPicPr>
        <p:blipFill>
          <a:blip r:embed="rId7"/>
          <a:srcRect l="6248" t="0" r="11250" b="13331"/>
          <a:stretch/>
        </p:blipFill>
        <p:spPr>
          <a:xfrm>
            <a:off x="18364320" y="30632400"/>
            <a:ext cx="6429240" cy="5065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26" descr="part1-lampes-camA.jpg"/>
          <p:cNvPicPr/>
          <p:nvPr/>
        </p:nvPicPr>
        <p:blipFill>
          <a:blip r:embed="rId8"/>
          <a:stretch/>
        </p:blipFill>
        <p:spPr>
          <a:xfrm>
            <a:off x="1219320" y="17830800"/>
            <a:ext cx="7696080" cy="57722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28" descr="PROBLEM-SHADDOW.jpg"/>
          <p:cNvPicPr/>
          <p:nvPr/>
        </p:nvPicPr>
        <p:blipFill>
          <a:blip r:embed="rId9">
            <a:lum contrast="30000"/>
          </a:blip>
          <a:srcRect l="17003" t="0" r="32003" b="0"/>
          <a:stretch/>
        </p:blipFill>
        <p:spPr>
          <a:xfrm>
            <a:off x="8839080" y="8001000"/>
            <a:ext cx="4373640" cy="6432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61" descr="arc-en-ciel.jpg"/>
          <p:cNvPicPr/>
          <p:nvPr/>
        </p:nvPicPr>
        <p:blipFill>
          <a:blip r:embed="rId10"/>
          <a:stretch/>
        </p:blipFill>
        <p:spPr>
          <a:xfrm>
            <a:off x="27508320" y="8001000"/>
            <a:ext cx="5410080" cy="6324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00" descr="COLOR TABLE.jpg"/>
          <p:cNvPicPr/>
          <p:nvPr/>
        </p:nvPicPr>
        <p:blipFill>
          <a:blip r:embed="rId11"/>
          <a:stretch/>
        </p:blipFill>
        <p:spPr>
          <a:xfrm>
            <a:off x="27889200" y="37109520"/>
            <a:ext cx="3429000" cy="5835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01" descr="graph.jpg"/>
          <p:cNvPicPr/>
          <p:nvPr/>
        </p:nvPicPr>
        <p:blipFill>
          <a:blip r:embed="rId12"/>
          <a:stretch/>
        </p:blipFill>
        <p:spPr>
          <a:xfrm>
            <a:off x="20802600" y="37795320"/>
            <a:ext cx="6205680" cy="4430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09" descr="B1.jpg"/>
          <p:cNvPicPr/>
          <p:nvPr/>
        </p:nvPicPr>
        <p:blipFill>
          <a:blip r:embed="rId13"/>
          <a:stretch/>
        </p:blipFill>
        <p:spPr>
          <a:xfrm>
            <a:off x="18516600" y="17830800"/>
            <a:ext cx="13469760" cy="11887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35" descr="R2.jpg"/>
          <p:cNvPicPr/>
          <p:nvPr/>
        </p:nvPicPr>
        <p:blipFill>
          <a:blip r:embed="rId14"/>
          <a:stretch/>
        </p:blipFill>
        <p:spPr>
          <a:xfrm>
            <a:off x="25450920" y="30480120"/>
            <a:ext cx="6437160" cy="5207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36" descr="2A copy.jpg"/>
          <p:cNvPicPr/>
          <p:nvPr/>
        </p:nvPicPr>
        <p:blipFill>
          <a:blip r:embed="rId15"/>
          <a:stretch/>
        </p:blipFill>
        <p:spPr>
          <a:xfrm>
            <a:off x="9372600" y="17830800"/>
            <a:ext cx="7696080" cy="57722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37" descr="3A copy.jpg"/>
          <p:cNvPicPr/>
          <p:nvPr/>
        </p:nvPicPr>
        <p:blipFill>
          <a:blip r:embed="rId16"/>
          <a:stretch/>
        </p:blipFill>
        <p:spPr>
          <a:xfrm>
            <a:off x="1168560" y="23926680"/>
            <a:ext cx="15849360" cy="11887200"/>
          </a:xfrm>
          <a:prstGeom prst="rect">
            <a:avLst/>
          </a:prstGeom>
          <a:ln w="0">
            <a:noFill/>
          </a:ln>
        </p:spPr>
      </p:pic>
      <p:grpSp>
        <p:nvGrpSpPr>
          <p:cNvPr id="61" name="Group 373"/>
          <p:cNvGrpSpPr/>
          <p:nvPr/>
        </p:nvGrpSpPr>
        <p:grpSpPr>
          <a:xfrm>
            <a:off x="1447920" y="9906120"/>
            <a:ext cx="5943600" cy="3531960"/>
            <a:chOff x="1447920" y="9906120"/>
            <a:chExt cx="5943600" cy="3531960"/>
          </a:xfrm>
        </p:grpSpPr>
        <p:pic>
          <p:nvPicPr>
            <p:cNvPr id="62" name="Picture 344" descr="6916,1125179725,1.jpg"/>
            <p:cNvPicPr/>
            <p:nvPr/>
          </p:nvPicPr>
          <p:blipFill>
            <a:blip r:embed="rId17"/>
            <a:stretch/>
          </p:blipFill>
          <p:spPr>
            <a:xfrm>
              <a:off x="4684320" y="10307160"/>
              <a:ext cx="2707200" cy="179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357" descr="AA043359.jpg"/>
            <p:cNvPicPr/>
            <p:nvPr/>
          </p:nvPicPr>
          <p:blipFill>
            <a:blip r:embed="rId18"/>
            <a:stretch/>
          </p:blipFill>
          <p:spPr>
            <a:xfrm>
              <a:off x="2816640" y="9906120"/>
              <a:ext cx="1739880" cy="141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Picture 359" descr="AA043624.jpg"/>
            <p:cNvPicPr/>
            <p:nvPr/>
          </p:nvPicPr>
          <p:blipFill>
            <a:blip r:embed="rId19"/>
            <a:stretch/>
          </p:blipFill>
          <p:spPr>
            <a:xfrm>
              <a:off x="1447920" y="11693520"/>
              <a:ext cx="1746000" cy="159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362" descr="CA08149.jpg"/>
            <p:cNvPicPr/>
            <p:nvPr/>
          </p:nvPicPr>
          <p:blipFill>
            <a:blip r:embed="rId20"/>
            <a:srcRect l="0" t="4689" r="0" b="0"/>
            <a:stretch/>
          </p:blipFill>
          <p:spPr>
            <a:xfrm>
              <a:off x="3188160" y="11361240"/>
              <a:ext cx="1641960" cy="178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366" descr="drs.jpg"/>
            <p:cNvPicPr/>
            <p:nvPr/>
          </p:nvPicPr>
          <p:blipFill>
            <a:blip r:embed="rId21"/>
            <a:stretch/>
          </p:blipFill>
          <p:spPr>
            <a:xfrm>
              <a:off x="4654080" y="12186000"/>
              <a:ext cx="1891800" cy="1252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7" name="Picture 347" descr="080220-F-5957S-116.jpg"/>
          <p:cNvPicPr/>
          <p:nvPr/>
        </p:nvPicPr>
        <p:blipFill>
          <a:blip r:embed="rId22"/>
          <a:stretch/>
        </p:blipFill>
        <p:spPr>
          <a:xfrm>
            <a:off x="16148160" y="11350800"/>
            <a:ext cx="4206600" cy="2651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49" descr="56959513.jpg"/>
          <p:cNvPicPr/>
          <p:nvPr/>
        </p:nvPicPr>
        <p:blipFill>
          <a:blip r:embed="rId23"/>
          <a:stretch/>
        </p:blipFill>
        <p:spPr>
          <a:xfrm>
            <a:off x="18056160" y="9217080"/>
            <a:ext cx="3975120" cy="29383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397"/>
          <p:cNvSpPr/>
          <p:nvPr/>
        </p:nvSpPr>
        <p:spPr>
          <a:xfrm>
            <a:off x="-914400" y="15163920"/>
            <a:ext cx="32918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1" lang="en-US" sz="8000" spc="-1" strike="noStrike">
                <a:solidFill>
                  <a:srgbClr val="595959"/>
                </a:solidFill>
                <a:latin typeface="Arial Unicode MS"/>
                <a:ea typeface="Arial Unicode MS"/>
              </a:rPr>
              <a:t>BETTER  LIGHT  FOR  BETTER  HEALTH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4"/>
          <p:cNvSpPr/>
          <p:nvPr/>
        </p:nvSpPr>
        <p:spPr>
          <a:xfrm>
            <a:off x="9296280" y="37261800"/>
            <a:ext cx="15392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Future improvemen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94"/>
          <p:cNvSpPr/>
          <p:nvPr/>
        </p:nvSpPr>
        <p:spPr>
          <a:xfrm>
            <a:off x="9296280" y="38633400"/>
            <a:ext cx="8763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851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 of only spots full spectrum ligh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5144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Arial"/>
              </a:rPr>
              <a:t>With a automatic detection and variability of the intensity. Able to focus on the area need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514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3"/>
          <p:cNvSpPr/>
          <p:nvPr/>
        </p:nvSpPr>
        <p:spPr>
          <a:xfrm>
            <a:off x="12748680" y="17907120"/>
            <a:ext cx="435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Full spectrum light in 1 ar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3"/>
          <p:cNvSpPr/>
          <p:nvPr/>
        </p:nvSpPr>
        <p:spPr>
          <a:xfrm>
            <a:off x="11687400" y="24079320"/>
            <a:ext cx="533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Full spectrum light in 1 area + spo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3"/>
          <p:cNvSpPr/>
          <p:nvPr/>
        </p:nvSpPr>
        <p:spPr>
          <a:xfrm>
            <a:off x="3905640" y="17830800"/>
            <a:ext cx="492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Full spectrum light – general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ligh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3"/>
          <p:cNvSpPr/>
          <p:nvPr/>
        </p:nvSpPr>
        <p:spPr>
          <a:xfrm>
            <a:off x="26092080" y="17983080"/>
            <a:ext cx="572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Multicolor  LED light – color chang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3"/>
          <p:cNvSpPr/>
          <p:nvPr/>
        </p:nvSpPr>
        <p:spPr>
          <a:xfrm>
            <a:off x="6868800" y="37485720"/>
            <a:ext cx="202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Only spot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4"/>
          <p:cNvSpPr/>
          <p:nvPr/>
        </p:nvSpPr>
        <p:spPr>
          <a:xfrm>
            <a:off x="0" y="1394460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oor lighting to provide quality c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4"/>
          <p:cNvSpPr/>
          <p:nvPr/>
        </p:nvSpPr>
        <p:spPr>
          <a:xfrm>
            <a:off x="16078320" y="7086600"/>
            <a:ext cx="1615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oor quality of lighting increase stress &amp; lack of comfort for the patient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97"/>
          <p:cNvSpPr/>
          <p:nvPr/>
        </p:nvSpPr>
        <p:spPr>
          <a:xfrm>
            <a:off x="9753480" y="28194120"/>
            <a:ext cx="1028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1" lang="en-US" sz="5400" spc="-1" strike="noStrike">
                <a:solidFill>
                  <a:srgbClr val="595959"/>
                </a:solidFill>
                <a:latin typeface="Arial Unicode MS"/>
                <a:ea typeface="Arial Unicode MS"/>
              </a:rPr>
              <a:t>For doctor &amp; nurs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97"/>
          <p:cNvSpPr/>
          <p:nvPr/>
        </p:nvSpPr>
        <p:spPr>
          <a:xfrm>
            <a:off x="18592920" y="25069680"/>
            <a:ext cx="1219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1" lang="en-US" sz="5400" spc="-1" strike="noStrike">
                <a:solidFill>
                  <a:srgbClr val="595959"/>
                </a:solidFill>
                <a:latin typeface="Arial Unicode MS"/>
                <a:ea typeface="Arial Unicode MS"/>
              </a:rPr>
              <a:t>For  the pati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6T04:13:12Z</dcterms:created>
  <dc:creator>user</dc:creator>
  <dc:description/>
  <dc:language>en-US</dc:language>
  <cp:lastModifiedBy>My Ngoc</cp:lastModifiedBy>
  <dcterms:modified xsi:type="dcterms:W3CDTF">2008-12-02T12:33:02Z</dcterms:modified>
  <cp:revision>62</cp:revision>
  <dc:subject/>
  <dc:title>Slide 1</dc:title>
</cp:coreProperties>
</file>